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977-05CA-4FA8-90E9-EDB97D18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48000" y="396432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6596-4E99-4D37-A139-8B788694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84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A03-6CE2-4016-8E84-EEC53955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34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58800" y="160020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480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34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58800" y="3964320"/>
            <a:ext cx="171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BDC-0957-4FCD-A7C2-D3BA269B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5F2-B416-4889-94DA-EFC1C572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6C4-04C8-4172-8B63-63867A48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B9A-A5D5-4E81-9321-DF416EBC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CC0-0AB0-4EC8-81DF-78F0CE3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48000" y="274320"/>
            <a:ext cx="5338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CAB8-13A9-4A3A-82AC-30CF488C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994-29C6-404C-8462-0E2C45AE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84000" y="396432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3F9-8A46-459C-9448-9A0DFFAD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84000" y="1600200"/>
            <a:ext cx="260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48000" y="3964320"/>
            <a:ext cx="533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5F1-313B-41BD-95C6-84DEB2E7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B423-1A0C-4357-8D6D-CCCD7608B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0" y="1125360"/>
            <a:ext cx="4533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Living On Another Pla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4000" y="4076280"/>
            <a:ext cx="496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ny Ry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our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been chosen to take part in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uman voyages to other pla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 planets will be visited, although you will only be able to travel to one of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Detai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ur planet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you leave, you and your team must develop some answers to two important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Tas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48000" y="134136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ther than food and clothing, you are only allowed to take five objects with you. Given the conditions on your planet, what will they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You must design a Life Capsule that will keep you alive on your planet for one wee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48000" y="40428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o Work As A Te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35280" y="2060640"/>
            <a:ext cx="505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begin, you must prove yourself to be worthy of going to another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must be able to listen deeply to everything that is said by other team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ready: You’re about to take part in a Listening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our special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will be using an Expert Jigsaw to solve our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Home Teams, each person is to choose a different pl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now will move into Expert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6-02-16T02:30:06Z</dcterms:modified>
  <cp:revision>8</cp:revision>
  <dc:subject/>
  <dc:title>PowerPoint Presentation</dc:title>
</cp:coreProperties>
</file>